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0D5F6-5A79-4BCF-84F6-AC9F29382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B9B8A-A806-4AB4-9DA2-EC3E7C8C8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16EB0-5417-46F5-A267-156984450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BC4D-3FFF-4FC4-8199-493A9D2A5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E2B3F-2A48-4025-9737-4733C6BF1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10E22-7E95-4ECF-B116-2988E8C91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02F24-2FB6-43EA-8DC3-7C3DA28F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AD60B-DB71-47E8-8DB4-7964E59E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DA07E-8B5A-4C26-85E1-BB6FFA3F2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E7FFD-B0FE-4A49-812E-F353F41E0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7DBF5-98AF-4E2F-9593-FA90255C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4C9D-2D08-4435-9A49-ED9B56EC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382A0-AA1B-47E0-BCD3-E292A9EEF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7B76-8D15-49AE-B777-16D2303A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B8F9C-EC49-4D15-83A2-B7E37D76C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7EFB2-3C57-4F76-96F5-785782990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B020E-B692-4C08-B1BC-64085C83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8E69-A0E4-42FA-9AEB-B09CDE17D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67452-70C1-4717-883E-EF4A1F4F3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DE3D-639C-439D-9331-0D2CD5F3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C0F9-CE5E-4800-B3E7-A8BFB19C9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341C6-4AAC-40D1-A8BA-47E26C395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6DA8A-F06F-4309-A449-2FDF919CB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9713-F865-4BA9-A196-9FFF20F1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5339-AAFD-4667-A0A1-19EB9578E57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4A02B-3F93-40C0-A455-4F922BC6C1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8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довно прање рук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довољну количину хигијенски исправне воде за све потребе (пиће, кување, купање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езбедити хигијенске услове за чување, транспорт и обраду намирниц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градња канализационе мреж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Адекватно отклањање отпадних материја (комунални отпад, медицински отпад..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Ефикасно сузбијање му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респиратор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363760"/>
            <a:ext cx="8229600" cy="37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пецифичне мере превенције респираторних заразних болести већег су значаја у односу на опште мер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заразе у превенцији респираторних болести код којих постоји хронично клицоноштво (дифтерија, шарлах и друге стрептококозе) тј. истраж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респиратор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апљиц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здух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директни 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утевима ширења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груписања људи у затвореним просторијам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оветрава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Влажно чишћење простор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Избегавање пољубаца са инфицираном особ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посуђа и прибора за јело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Прање и дезинфекција играчака (дечја обданишта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Употреба папирних марам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2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респираторних заразних болести усмерене према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8763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маски (вишеслојне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Прекривају нос и уст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е носе се дуже од три сата (овлажене не дају заштиту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акон употребе се бацај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Никада се поново не корист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Ношење заштитних наоча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Значајно у спречавању ширења респираторних обољења у болничкој средин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резервоарима зараз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животињ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домаћ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ништавање глода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езервоар векторске заразне болести човек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малариј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4920" y="1599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 Превенција болести које се преносе вашима 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узбијање вашљивости-елиминација пегавог тифус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путу заразе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(вектор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Уништавање вектор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 (маларија, жута грозница, денга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прскање инсектицидима просторија у којима се налазе људи и животи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исушивање влажних терен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 заштита од вектора (мреже на прозорима и вратим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28600" y="243828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комарцима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аношење репелената (одбијају инсекте) на кож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ffffff"/>
                </a:solidFill>
                <a:latin typeface="Arial"/>
              </a:rPr>
              <a:t>Превенција заразних болести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28600" y="2057400"/>
            <a:ext cx="8686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Циљ: онемогућавање настанка услова за појаву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пште мере превенције векторских заразних болести усмерене </a:t>
            </a:r>
            <a:r>
              <a:rPr b="0" lang="sr-CS" sz="3200" spc="-1" strike="noStrike" u="sng">
                <a:solidFill>
                  <a:srgbClr val="ffffff"/>
                </a:solidFill>
                <a:uFillTx/>
                <a:latin typeface="Arial"/>
              </a:rPr>
              <a:t>према улазном мест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-360" y="160020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sr-CS" sz="3200" spc="-1" strike="noStrike">
                <a:solidFill>
                  <a:srgbClr val="ffffff"/>
                </a:solidFill>
                <a:latin typeface="Arial"/>
              </a:rPr>
              <a:t>Заштита улазног мес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*Превенција болести које се преносе преко крпеља (Лајмска болест, крпељски менингоенцефалитис)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збегавање кретања кроз високу трав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ошење дугих панталона и дугих рукав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Раскрчивање терена од густе вегетације при камповању и логоровањ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антропозооноз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арадња ветеринарске и здравствене служб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Смањење учесталости оболевања код животињ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Контрола промета животиња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Одржавање хигијенских услова у просторијама где се животиње држ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Вакцинациј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- Лечењ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зависе од путева ширења односно од улазног места агенс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Мере превенције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6240" y="1913040"/>
            <a:ext cx="8003880" cy="42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Општ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00"/>
                </a:solidFill>
                <a:latin typeface="Arial"/>
              </a:rPr>
              <a:t>Специфичн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52280" y="1294920"/>
            <a:ext cx="883944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Не односе се на једно одређено обољењ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ристе се у спречавању појаве св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личне су за обољења која припадају истој групи (према епидемиолошкој класификацији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су према свим карикама ланца инфекције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5816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Специфичне мере превенције заразних болести</a:t>
            </a:r>
            <a:br>
              <a:rPr sz="4000"/>
            </a:b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6868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дносе се на превенцију одређене заразне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бухватају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акцинациј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сер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емиопрофилаксу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28600" y="2133720"/>
            <a:ext cx="868680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мају највећи значај у превенцији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окривању резервоар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смерене према путевима преноше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(трбушни тифус, бациларна дизентерија)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у хуманој популациј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2209320"/>
            <a:ext cx="86868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клицонош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Удаљавање клицоноша са радних места (запослени у производњи, преради и дистрибуцији хране или снабдевању становништва водом за пиће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код којих постоји хронично клицоноштво усмерене према </a:t>
            </a:r>
            <a:r>
              <a:rPr b="1" lang="sr-CS" sz="2400" spc="-1" strike="noStrike" u="sng">
                <a:solidFill>
                  <a:srgbClr val="ffffff"/>
                </a:solidFill>
                <a:uFillTx/>
                <a:latin typeface="Arial"/>
              </a:rPr>
              <a:t>откривању резервоара заразе</a:t>
            </a:r>
            <a:r>
              <a:rPr b="1" lang="sr-CS" sz="2400" spc="-1" strike="noStrike">
                <a:solidFill>
                  <a:srgbClr val="ffffff"/>
                </a:solidFill>
                <a:latin typeface="Arial"/>
              </a:rPr>
              <a:t> (клицоноше) међу животиња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52280" y="2057400"/>
            <a:ext cx="87631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Откривање резервоара (клицоноша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Лечење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Забрана коришћења продуката оболелих животињ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Опште мере превенције цревних заразних болести усмерене према </a:t>
            </a:r>
            <a:r>
              <a:rPr b="1" lang="sr-CS" sz="2800" spc="-1" strike="noStrike" u="sng">
                <a:solidFill>
                  <a:srgbClr val="ffffff"/>
                </a:solidFill>
                <a:uFillTx/>
                <a:latin typeface="Arial"/>
              </a:rPr>
              <a:t>путевима преношења</a:t>
            </a:r>
            <a:r>
              <a:rPr b="1" lang="sr-C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228600" y="1523880"/>
            <a:ext cx="86868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Путеви преношења цревних заразних болест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Контакт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Хран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Arial"/>
              </a:rPr>
              <a:t>Инсект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55:5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