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81A-A067-4EEA-A6A8-D3B1C9AC0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F962-A76C-4B13-B0DA-C43E1A964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9A153-7F29-4C0B-A546-EE6CFCB86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A359C-FD56-4FF2-850F-72EFF8F1C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065CA-49EA-4192-8D35-E36C60BD2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75D40-FBFC-42C1-B558-81799D59B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C9FE6-50B4-4E62-8747-497F8A91A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AB417-9287-4953-81DD-6798FC147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01DAD5-A934-4503-8FD7-B04C79922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6B246-DF93-445F-A2D8-FABC56F77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2FD2-F595-40AE-990D-B1050852D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279E8-3FB7-43E2-8060-0EF2E6E62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654D4-E1C7-464A-B202-DFE928013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C235F-442C-4029-B222-3BFB56553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F1ABD-2E5B-4379-8A3D-120EB7A22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ADEE5-8307-4CB5-8467-73D59CD9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0E7AB-219E-4825-A94B-71867A3BA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265AD-1B5D-4E1A-8BAF-BC77B81D6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84E96-134C-49C6-962C-AE8AD5CA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FCC7B-5029-4EAA-BC22-EF751BCD7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EA37-0A21-4F5F-B24B-5FB597A22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CA31-056D-4002-AD69-64619F8C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58D5E-C1CC-4D5E-B3DF-6D4D76398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B0FA-92E3-490C-B58F-23A2AFFA4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870AD-5354-43F2-AFDB-2526D5A837C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4C5C6-60EB-4FA7-A590-69E9F91E270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1447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4800" spc="-1" strike="noStrike">
                <a:solidFill>
                  <a:srgbClr val="330066"/>
                </a:solidFill>
                <a:latin typeface="Arial"/>
              </a:rPr>
              <a:t>Превенција поремећаја здравља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Мере примарне превенције усмерене н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шту популацију (потреба за физичком активношћу која одговара узрасту) и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јединим њеним сегментима (вакцинација одојчади или заштита деце школског узраст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2133360"/>
            <a:ext cx="815328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за што раније откривање већ насталих поремећаја здравља (откривање особа са већ узнапредовалом болешћу који су измакли пажњи здравствене служб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: успостављање нарушеног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0773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нижавање преваленције одговарајућег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олели (жртве болести) тј. повређене осо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крининг, самопреглед, систематски  преглед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98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екунд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секундарне превенције се прелиминар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двајају особе за које постоји сумња да су оболеле (дефинитивна дијагноза је у домену клиничке медицин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4560" y="53352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1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2361960"/>
            <a:ext cx="79250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атолошки процес је већ одмака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тпуно излечење више није могу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Мере терцијарне превенције 2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761760" y="1719360"/>
            <a:ext cx="792468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оштећења и неспособности и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е рехабилитације и навикавање пацијента на настало ста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Терцијарна превенција 3/3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нижава се учесталост компликација и умир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жртве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* Пример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довни контролни преглед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ехабилитација (физичка и психич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рада проте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Поремећаји здравља од којих се данас највише оболева и умир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20574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арди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ереброваскуларна обоље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алигне неоплазм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рауматиза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пструктивна болест плу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ијабет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330066"/>
                </a:solidFill>
                <a:latin typeface="Arial"/>
              </a:rPr>
              <a:t>Личне навике и начин живота које утичу на учесталост најчешћих поремеђаја здравља</a:t>
            </a:r>
            <a:endParaRPr b="1" lang="en-US" sz="2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ушењ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схрана богата мастима животињског порек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еран унос алкохо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суство физичке актив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Ризична вож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ронични стре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4920" y="533520"/>
            <a:ext cx="769608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аучне основе, дилеме и ограничења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30556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Епидемиолошка истраживања (интервентне или опсервационе студије)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снов за одлучивање о избору превентивних ме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азнања о факторима ризика за настанак најважнијих поремећаја здравља (болести срца и крв. судова, малигне неиоплазме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 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905120"/>
            <a:ext cx="79246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Активности и мере везане з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напређе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чување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спостављање здравља које је нарушен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пречавање или одлагање неповољног тока и исхода иреверзибилних поремећаја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Стратегија превентивног рад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8088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гменти (у оперативном погледу) превентивне делатн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1. сагледавање епидемиолошке ситуациј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2. интер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3. евалуација ефикасности интервенције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19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600" spc="-1" strike="noStrike">
                <a:solidFill>
                  <a:srgbClr val="330066"/>
                </a:solidFill>
                <a:latin typeface="Arial"/>
              </a:rPr>
              <a:t>Сагледавање епидемиолошке ситуације</a:t>
            </a:r>
            <a:br>
              <a:rPr sz="3600"/>
            </a:br>
            <a:endParaRPr b="1" lang="en-US" sz="36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Увид у стање и динамику расподеле болести и здравља у попула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ује се системом епидемиолошког надзор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лив поузданих информација важа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Дуга традиција праћења заразних боле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зложеност макро и микро срединским ризицима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04560" y="1295280"/>
            <a:ext cx="845820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ње пажње само на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ајугроженије сегмент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популације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даје ефект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ценат оболевања је највећи у групи особа најизложенијих одређеном штетном фактори, али је учешће те групе у структури те популације ма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јвећи број оболелих се региструје из категорије грађана који имају 5 х нижи ризик али којих је 20 х виш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Интервенција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6868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и редовно лечење свих хипертоничара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→инциденција апоплексије би се смањила за 15 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  <a:ea typeface="Arial"/>
              </a:rPr>
              <a:t>Просечно снижење хипертензије за 5 % → инциденција апоплексије опада за 30%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655344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315200" cy="441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Борба против поремећаја здравља пре њиховог клиничког испољав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евентивна медицин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4475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граничава се на поступке који су у опсегу здравствене служб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Имуниза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емиопрофилакс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облем клицоно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ткривање болести скринингом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Заштита вулнерабилних група становништв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55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500" spc="-1" strike="noStrike">
                <a:solidFill>
                  <a:srgbClr val="330066"/>
                </a:solidFill>
                <a:latin typeface="Arial"/>
              </a:rPr>
              <a:t>Јавно здравство?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51920" y="990720"/>
            <a:ext cx="899172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евентивна делатност која је у надлежности целе друштвене заједниц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безбеђивање микробиолошки и хемијски исправне воде за пић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езбедан систем одвођења и третирања отпадних вода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Хигијенско уклањање смећ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Борба против аерозагађења и бук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Контрола производње, ускладиштења и промета животних намирниц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Одржавање екосистема у стању равнотеж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761760"/>
            <a:ext cx="75438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500" spc="-1" strike="noStrike">
                <a:solidFill>
                  <a:srgbClr val="330066"/>
                </a:solidFill>
                <a:latin typeface="Arial"/>
              </a:rPr>
              <a:t>Нивои превенције</a:t>
            </a:r>
            <a:endParaRPr b="1" lang="en-US" sz="35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7696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ордијал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им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Секунд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Терцијарна прев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7543800" cy="115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46748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апори да се у одређену средину уопште не унесе штетна навика, обичај или облик понашањ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ретходи превенциј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89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ордијал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52280" y="1143000"/>
            <a:ext cx="88394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Циљна група:</a:t>
            </a: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3000" spc="-1" strike="noStrike">
                <a:solidFill>
                  <a:srgbClr val="000000"/>
                </a:solidFill>
                <a:latin typeface="Arial"/>
              </a:rPr>
              <a:t>Произашла из епидемиолошких сазнања о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Високој учесталости КВБ у деловима света где исхрана садржи много масти животињског порекла (Финска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Ниској учесталости КВБ у подручјима где су засићене масти мање заступљене у исхрани (Јапан-чест висок притисак и други фактори ризика за КВБ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900" spc="-1" strike="noStrike">
                <a:solidFill>
                  <a:srgbClr val="330066"/>
                </a:solidFill>
                <a:latin typeface="Arial"/>
              </a:rPr>
              <a:t>Примарна превенција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560" y="1904760"/>
            <a:ext cx="8381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Циљна група: обухвата општу популацију тј. здраве грађан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Поступци који се предузимају пре појаве болести и повреда како до њих уопште не би дошло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Активности усмерене ка унапређењу и очувању здрављ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000000"/>
                </a:solidFill>
                <a:latin typeface="Arial"/>
              </a:rPr>
              <a:t>Мерама примарне превенције снижава се инциденциј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 </cp:lastModifiedBy>
  <dcterms:modified xsi:type="dcterms:W3CDTF">2017-01-09T10:53:40Z</dcterms:modified>
  <cp:revision>4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