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D618C-6006-480C-B048-F70A2C871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DB946-3073-44DB-9A27-4BB3A259F5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66AA-C19E-45B1-AC6D-F12D09B32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9C7D3-99F1-426D-92CE-E5685E6810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15E1B-BD81-4DE0-8EF3-E16616B7A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7308E-7815-40E5-AFE9-F32ACCC5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9C3A6-1E87-4906-9B0D-F10EFAFA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8110A-B358-4534-B942-FD9BD29E7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91036-7C9C-4095-97B9-F38B37A57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06A9-6A02-40F2-930D-41DD12B4D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AD24-F320-4DCD-8B5C-373A59C4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39285-99E8-4BCB-8920-559992DFA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88D2F-2155-44B0-87F0-803D14FE2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9E7A-FA65-4B8C-9C13-F6157F5DA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837AE-8F00-48AD-948B-90F407BC3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CBCBA-03EC-4F86-8940-5185EDF080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0BC1-EBF4-4C82-BBC7-9F5B1B10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2E8B0-1CFC-4BA9-BD4F-14406091E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303AA-68A2-4E96-BC3E-B05C2AE4BE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36D-E445-4040-BEA1-B9E70EFDC3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FC8C4-F7CB-4F51-AE14-CE2FE97DB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6A1-7FE1-4F6F-904B-83B32C28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7A837-8A0C-4D71-BF12-76893429C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6F9BD-B1E9-4F34-8F40-AC01F4D41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B5667F-F63F-4A04-9BDE-B4714BFE4B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>
                <a:gd name="textAreaLeft" fmla="*/ 0 w 4427640"/>
                <a:gd name="textAreaRight" fmla="*/ 4428000 w 442764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  <a:lnTo>
                    <a:pt x="2780" y="24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>
                <a:gd name="textAreaLeft" fmla="*/ 0 w 18720"/>
                <a:gd name="textAreaRight" fmla="*/ 19080 w 18720"/>
                <a:gd name="textAreaTop" fmla="*/ 0 h 28440"/>
                <a:gd name="textAreaBottom" fmla="*/ 28800 h 28440"/>
              </a:gdLst>
              <a:ahLst/>
              <a:rect l="textAreaLeft" t="textAreaTop" r="textAreaRight" b="textAreaBottom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>
                <a:gd name="textAreaLeft" fmla="*/ 0 w 9720"/>
                <a:gd name="textAreaRight" fmla="*/ 10080 w 9720"/>
                <a:gd name="textAreaTop" fmla="*/ 0 h 28800"/>
                <a:gd name="textAreaBottom" fmla="*/ 29160 h 28800"/>
              </a:gdLst>
              <a:ahLst/>
              <a:rect l="textAreaLeft" t="textAreaTop" r="textAreaRight" b="textAreaBottom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>
                <a:gd name="textAreaLeft" fmla="*/ 0 w 482760"/>
                <a:gd name="textAreaRight" fmla="*/ 483120 w 482760"/>
                <a:gd name="textAreaTop" fmla="*/ 0 h 1176120"/>
                <a:gd name="textAreaBottom" fmla="*/ 1176480 h 1176120"/>
              </a:gdLst>
              <a:ahLst/>
              <a:rect l="textAreaLeft" t="textAreaTop" r="textAreaRight" b="textAreaBottom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>
                <a:gd name="textAreaLeft" fmla="*/ 0 w 498600"/>
                <a:gd name="textAreaRight" fmla="*/ 498960 w 498600"/>
                <a:gd name="textAreaTop" fmla="*/ 0 h 1217520"/>
                <a:gd name="textAreaBottom" fmla="*/ 1217880 h 1217520"/>
              </a:gdLst>
              <a:ahLst/>
              <a:rect l="textAreaLeft" t="textAreaTop" r="textAreaRight" b="textAreaBottom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>
                <a:gd name="textAreaLeft" fmla="*/ 0 w 436320"/>
                <a:gd name="textAreaRight" fmla="*/ 436680 w 436320"/>
                <a:gd name="textAreaTop" fmla="*/ 0 h 988920"/>
                <a:gd name="textAreaBottom" fmla="*/ 988920 h 988920"/>
              </a:gdLst>
              <a:ahLst/>
              <a:rect l="textAreaLeft" t="textAreaTop" r="textAreaRight" b="textAreaBottom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>
                <a:gd name="textAreaLeft" fmla="*/ 0 w 338040"/>
                <a:gd name="textAreaRight" fmla="*/ 338400 w 338040"/>
                <a:gd name="textAreaTop" fmla="*/ 0 h 969840"/>
                <a:gd name="textAreaBottom" fmla="*/ 970200 h 969840"/>
              </a:gdLst>
              <a:ahLst/>
              <a:rect l="textAreaLeft" t="textAreaTop" r="textAreaRight" b="textAreaBottom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>
                <a:gd name="textAreaLeft" fmla="*/ 0 w 264960"/>
                <a:gd name="textAreaRight" fmla="*/ 265320 w 264960"/>
                <a:gd name="textAreaTop" fmla="*/ 0 h 609480"/>
                <a:gd name="textAreaBottom" fmla="*/ 609840 h 609480"/>
              </a:gdLst>
              <a:ahLst/>
              <a:rect l="textAreaLeft" t="textAreaTop" r="textAreaRight" b="textAreaBottom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>
                <a:gd name="textAreaLeft" fmla="*/ 0 w 263520"/>
                <a:gd name="textAreaRight" fmla="*/ 263880 w 263520"/>
                <a:gd name="textAreaTop" fmla="*/ 0 h 476280"/>
                <a:gd name="textAreaBottom" fmla="*/ 476640 h 476280"/>
              </a:gdLst>
              <a:ahLst/>
              <a:rect l="textAreaLeft" t="textAreaTop" r="textAreaRight" b="textAreaBottom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>
                <a:gd name="textAreaLeft" fmla="*/ 0 w 376200"/>
                <a:gd name="textAreaRight" fmla="*/ 376560 w 376200"/>
                <a:gd name="textAreaTop" fmla="*/ 0 h 447840"/>
                <a:gd name="textAreaBottom" fmla="*/ 448200 h 447840"/>
              </a:gdLst>
              <a:ahLst/>
              <a:rect l="textAreaLeft" t="textAreaTop" r="textAreaRight" b="textAreaBottom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>
                <a:gd name="textAreaLeft" fmla="*/ 0 w 311400"/>
                <a:gd name="textAreaRight" fmla="*/ 311760 w 311400"/>
                <a:gd name="textAreaTop" fmla="*/ 0 h 371520"/>
                <a:gd name="textAreaBottom" fmla="*/ 371880 h 371520"/>
              </a:gdLst>
              <a:ahLst/>
              <a:rect l="textAreaLeft" t="textAreaTop" r="textAreaRight" b="textAreaBottom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>
                <a:gd name="textAreaLeft" fmla="*/ 0 w 301680"/>
                <a:gd name="textAreaRight" fmla="*/ 302040 w 301680"/>
                <a:gd name="textAreaTop" fmla="*/ 0 h 399960"/>
                <a:gd name="textAreaBottom" fmla="*/ 400320 h 399960"/>
              </a:gdLst>
              <a:ahLst/>
              <a:rect l="textAreaLeft" t="textAreaTop" r="textAreaRight" b="textAreaBottom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>
                <a:gd name="textAreaLeft" fmla="*/ 0 w 365040"/>
                <a:gd name="textAreaRight" fmla="*/ 365040 w 3650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>
                <a:gd name="textAreaLeft" fmla="*/ 0 w 141480"/>
                <a:gd name="textAreaRight" fmla="*/ 141840 w 141480"/>
                <a:gd name="textAreaTop" fmla="*/ 0 h 162000"/>
                <a:gd name="textAreaBottom" fmla="*/ 162360 h 162000"/>
              </a:gdLst>
              <a:ahLst/>
              <a:rect l="textAreaLeft" t="textAreaTop" r="textAreaRight" b="textAreaBottom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>
                <a:gd name="textAreaLeft" fmla="*/ 0 w 441360"/>
                <a:gd name="textAreaRight" fmla="*/ 441720 w 441360"/>
                <a:gd name="textAreaTop" fmla="*/ 0 h 1512720"/>
                <a:gd name="textAreaBottom" fmla="*/ 1513080 h 1512720"/>
              </a:gdLst>
              <a:ahLst/>
              <a:rect l="textAreaLeft" t="textAreaTop" r="textAreaRight" b="textAreaBottom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3CB1C-413C-4D93-8630-5E94DD85D4D2}" type="slidenum">
              <a:rPr b="0" lang="en-US" sz="12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5700" spc="-1" strike="noStrike">
                <a:solidFill>
                  <a:srgbClr val="ffffcc"/>
                </a:solidFill>
                <a:latin typeface="Arial"/>
              </a:rPr>
              <a:t>Превенција-нивои</a:t>
            </a:r>
            <a:endParaRPr b="0" lang="en-US" sz="57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5331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2133720"/>
            <a:ext cx="84582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Акт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(подразумева промене понаша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Коришћењ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штитних средстава на рад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Примена вакцина у превенцији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не захтева промену понашања, једноставнији за спровођење)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флуоризација вод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- додавање витамина појединим намирницам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924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нижење инциденције болести контролом узрочних фактора (фактора ризик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Циљ примарне превенциј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имарна превенција зависи од промена у понашању већин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Роузова “теорема”- изложеност великог броја људи малом ризику може довести до много више оболелих него изложеност малог броја људи високом ризик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Стратегије примарног нивоа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23274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опулацио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Индивидуал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1920" y="53316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едност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160" y="23270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појединац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НЕ захтева идентификацију група са високим ризик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000" spc="-1" strike="noStrike" u="sng">
                <a:solidFill>
                  <a:srgbClr val="ffffcc"/>
                </a:solidFill>
                <a:uFillTx/>
                <a:latin typeface="Arial"/>
              </a:rPr>
              <a:t>Недостатак</a:t>
            </a: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 популационог приступа превенциј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 мора да буде од велике користи појединцу, с обзиром на низак степен његовог индивидуалног ризик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вентивни парадокс ?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Нека превентивна мера доноси велику корист популацији, не мора истовремено да користи сваком њеном појединачном члан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екундарна превенција и 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Рано откривање болести и адекватна терапија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Циљ: заустављање напредовања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Време примене: фаза патогенезе болест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Ефикаснија код обољења која у природној историји имају период који се лако открива и леч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eaeaea"/>
                </a:solidFill>
                <a:latin typeface="Verdana"/>
              </a:rPr>
              <a:t>Спречава прогресију обољења у озбиљне стадијуме у којима су терапијске могућности мале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28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cc"/>
                </a:solidFill>
                <a:latin typeface="Arial"/>
              </a:rPr>
              <a:t>Услови који треба да буду испуњени да би секундарна превенција била ефикасна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2286000"/>
            <a:ext cx="80773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игуран и безбедан метод откривања болести (ако је могуће у преклиничкој фаз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Ефикасан метод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Терцијарна превенција-мере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761760" y="2361960"/>
            <a:ext cx="838188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: смањење неспособно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Примена епидемиолошких истраживања у области превенциј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80880" y="2209680"/>
            <a:ext cx="87631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зналажење могућности за ефикасну интервенцију у појединим </a:t>
            </a:r>
            <a:r>
              <a:rPr b="1" lang="sr-CS" sz="3200" spc="-1" strike="noStrike" u="sng">
                <a:solidFill>
                  <a:srgbClr val="eaeaea"/>
                </a:solidFill>
                <a:uFillTx/>
                <a:latin typeface="Arial"/>
              </a:rPr>
              <a:t>фазама природног тока болест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(развој болести од почетних фаза до исход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Период 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Arial"/>
              </a:rPr>
              <a:t>Опоравак, неспособност, смртни исход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2209320"/>
            <a:ext cx="822960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Систем епидемиолошког надз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икупљање информација које имају за циљ сагледавање учесталости и дистрибуције болести и здравља у популациј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1048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Процес интервенције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заснован н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индивидуал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пулационом приступу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мбинацији оба (са етичког аспекта најприхватљивији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762120"/>
            <a:ext cx="8229600" cy="7905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Садржај превентивног рад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6868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eaeaea"/>
                </a:solidFill>
                <a:latin typeface="Verdana"/>
              </a:rPr>
              <a:t>Евалуација ефикасности интер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континуирани процес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-</a:t>
            </a: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утиче на предлагање нових мера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2362320"/>
            <a:ext cx="8610480" cy="30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утински подаци здравствене статистик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Различити типови епидемиолошких студиј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 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Евалуација превентивних програма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требна због процене њихове оправданости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одразумева однос уложених средстава и очекиваног ефекта на здравствено стање попула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Нивои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670572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ордијал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рим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Секундарни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Терцијарни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305920" cy="3352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ретходи или се поклапа са примарним нивоом превенциј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Последица је пораста укупног знања у области изучавања етиологије не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Примордијал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Циљ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Спречити да се у некој популацији успоставе обрасци понашања у социјалној, економској и културној сфери живота који доводе до повећања ризика од појаве поједи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400" spc="-1" strike="noStrike">
                <a:solidFill>
                  <a:srgbClr val="ffffcc"/>
                </a:solidFill>
                <a:latin typeface="Arial"/>
              </a:rPr>
              <a:t>Примарна превенција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3059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Предуз</a:t>
            </a: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умева</a:t>
            </a: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 низ мера и поступака у периоду препатогенезе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Verdana"/>
              </a:rPr>
              <a:t>Циљ-смањење могућности за појаву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30592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Здравствено васпитање о штетности појединих фактор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дувана (фактор ризика за малигне туморе, КВБ, респираторна обољења)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штетности прекомерне употребе алкохол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cc"/>
                </a:solidFill>
                <a:latin typeface="Arial"/>
              </a:rPr>
              <a:t>Мере примарне превенције ?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80520" y="16761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значају коришћења неких намирница (воће и поврће) које имају заштитну улогу у етиологији неких обољења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eaeaea"/>
                </a:solidFill>
                <a:latin typeface="Arial"/>
              </a:rPr>
              <a:t>Информисање о вакцинама против неких заразних болест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6858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cc"/>
                </a:solidFill>
                <a:latin typeface="Arial"/>
              </a:rPr>
              <a:t>Начини спровођења мера примарне превенције ?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61760" y="2514240"/>
            <a:ext cx="75438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Акт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eaeaea"/>
                </a:solidFill>
                <a:latin typeface="Arial"/>
              </a:rPr>
              <a:t>Пасивни приступ</a:t>
            </a:r>
            <a:endParaRPr b="0" lang="en-US" sz="3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1:03:38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